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10.gif" ContentType="image/gif"/>
  <Override PartName="/ppt/media/image9.png" ContentType="image/png"/>
  <Override PartName="/ppt/media/wind.wav" ContentType="audio/x-wav"/>
  <Override PartName="/ppt/media/chimes.wav" ContentType="audio/x-wav"/>
  <Override PartName="/ppt/media/image13.gif" ContentType="image/gif"/>
  <Override PartName="/ppt/media/image16.jpeg" ContentType="image/jpeg"/>
  <Override PartName="/ppt/media/image8.gif" ContentType="image/gif"/>
  <Override PartName="/ppt/media/image6.jpeg" ContentType="image/jpeg"/>
  <Override PartName="/ppt/media/image15.gif" ContentType="image/gif"/>
  <Override PartName="/ppt/media/type.wav" ContentType="audio/x-wav"/>
  <Override PartName="/ppt/media/image14.gif" ContentType="image/gif"/>
  <Override PartName="/ppt/media/suction.wav" ContentType="audio/x-wav"/>
  <Override PartName="/ppt/media/image12.gif" ContentType="image/gif"/>
  <Override PartName="/ppt/media/image11.gif" ContentType="image/gif"/>
  <Override PartName="/ppt/media/image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click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B120-4DBD-4422-B7E3-D2F7F011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287F-3476-4F5F-BB71-8A7DB70F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04B-88E6-4B5D-A84F-54EAA44C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F07-8E21-4AEF-ABBC-7DAA70F1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FA8-39D1-4EE4-933F-12622D68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C4A5-4012-4ABD-930C-4663FBED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288-D357-4789-B598-FAF9FD1D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AD50-7B83-4C60-BA77-79C9F17C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6C8-2A9F-4249-B04D-E76BA59F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9CA-8D33-4715-8788-96FEA25C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642-7C14-4053-BDCE-0EAD5829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65F-3AB0-4617-BE9A-3F8787FD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E42-1694-4D41-B037-745EFC88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48A-D7F2-464D-ACDC-992232AD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1d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F4D-5154-4FC4-BD79-6ED1ED0CE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lick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19280" y="162864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987640" y="1700280"/>
            <a:ext cx="59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笔录奇人妙事供后世赏玩之中，得知往昔此地之众生相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——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俗世奇人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800080"/>
                </a:solidFill>
                <a:latin typeface="Arial"/>
              </a:rPr>
              <a:t>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sujpg"/>
          <p:cNvPicPr/>
          <p:nvPr/>
        </p:nvPicPr>
        <p:blipFill>
          <a:blip r:embed="rId1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4843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</a:rPr>
              <a:t>了解作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788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本文作者是当代作家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________,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他以写知识分子和天津近代历史故事见长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短篇小说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《 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_________ 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，中篇小说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《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____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《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____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分获全国优秀短篇、优秀中篇小说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39640" y="1844640"/>
            <a:ext cx="187164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冯骥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1640" y="3429000"/>
            <a:ext cx="237636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雕花烟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393372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755640" y="4508640"/>
            <a:ext cx="144000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神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feng1"/>
          <p:cNvPicPr/>
          <p:nvPr/>
        </p:nvPicPr>
        <p:blipFill>
          <a:blip r:embed="rId1"/>
          <a:stretch/>
        </p:blipFill>
        <p:spPr>
          <a:xfrm>
            <a:off x="5724360" y="2421000"/>
            <a:ext cx="2988000" cy="3860640"/>
          </a:xfrm>
          <a:prstGeom prst="rect">
            <a:avLst/>
          </a:prstGeom>
          <a:ln w="0">
            <a:noFill/>
          </a:ln>
        </p:spPr>
      </p:pic>
      <p:sp>
        <p:nvSpPr>
          <p:cNvPr id="95" name="WordArt 9"/>
          <p:cNvSpPr txBox="1"/>
          <p:nvPr/>
        </p:nvSpPr>
        <p:spPr>
          <a:xfrm>
            <a:off x="5003640" y="1268280"/>
            <a:ext cx="38023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民族文化的守望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987640" y="1125360"/>
            <a:ext cx="6012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阅读课文，用自己的话概括泥人张、杨七、杨巴究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何处？从文中哪些地方可以看出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02"/>
          <p:cNvPicPr/>
          <p:nvPr/>
        </p:nvPicPr>
        <p:blipFill>
          <a:blip r:embed="rId1"/>
          <a:stretch/>
        </p:blipFill>
        <p:spPr>
          <a:xfrm>
            <a:off x="3492360" y="189000"/>
            <a:ext cx="2664000" cy="90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ujpg"/>
          <p:cNvPicPr/>
          <p:nvPr/>
        </p:nvPicPr>
        <p:blipFill>
          <a:blip r:embed="rId2"/>
          <a:stretch/>
        </p:blipFill>
        <p:spPr>
          <a:xfrm>
            <a:off x="0" y="0"/>
            <a:ext cx="30178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4284720" y="2781360"/>
            <a:ext cx="4572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捏泥人，单只妙手见功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护尊严，一身傲骨笑权贵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987640" y="306864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泥人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987640" y="436572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杨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059280" y="537372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杨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4356000" y="4365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构思巧妙、手艺精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4500720" y="537372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随机应变、处乱不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20080327164212_23639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0955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3"/>
          <p:cNvSpPr txBox="1"/>
          <p:nvPr/>
        </p:nvSpPr>
        <p:spPr>
          <a:xfrm>
            <a:off x="1908000" y="189000"/>
            <a:ext cx="45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41400">
                  <a:solidFill>
                    <a:srgbClr val="d8cb22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全文梳理</a:t>
            </a:r>
            <a:endParaRPr b="0" lang="en-US" sz="1800" spc="1" strike="noStrike">
              <a:ln w="41400">
                <a:solidFill>
                  <a:srgbClr val="d8cb22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-544320" y="1125360"/>
            <a:ext cx="9258120" cy="4914720"/>
            <a:chOff x="-544320" y="1125360"/>
            <a:chExt cx="9258120" cy="4914720"/>
          </a:xfrm>
        </p:grpSpPr>
        <p:sp>
          <p:nvSpPr>
            <p:cNvPr id="108" name="AutoShape 5"/>
            <p:cNvSpPr/>
            <p:nvPr/>
          </p:nvSpPr>
          <p:spPr>
            <a:xfrm>
              <a:off x="720720" y="1557000"/>
              <a:ext cx="7200720" cy="352764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6"/>
            <p:cNvSpPr/>
            <p:nvPr/>
          </p:nvSpPr>
          <p:spPr>
            <a:xfrm>
              <a:off x="-544320" y="2205000"/>
              <a:ext cx="1277640" cy="22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俗世奇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7436160" y="2349360"/>
              <a:ext cx="127764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66"/>
                  </a:solidFill>
                  <a:latin typeface="Arial"/>
                </a:rPr>
                <a:t>天津民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8"/>
            <p:cNvSpPr/>
            <p:nvPr/>
          </p:nvSpPr>
          <p:spPr>
            <a:xfrm>
              <a:off x="1019160" y="1196640"/>
              <a:ext cx="103356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Arial"/>
                </a:rPr>
                <a:t>泥人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9"/>
            <p:cNvSpPr/>
            <p:nvPr/>
          </p:nvSpPr>
          <p:spPr>
            <a:xfrm>
              <a:off x="1019160" y="3860640"/>
              <a:ext cx="103356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Arial"/>
                </a:rPr>
                <a:t>好嘴杨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2376360" y="1125360"/>
              <a:ext cx="4105440" cy="172728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2376360" y="3573360"/>
              <a:ext cx="4176720" cy="187164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"/>
            <p:cNvSpPr/>
            <p:nvPr/>
          </p:nvSpPr>
          <p:spPr>
            <a:xfrm>
              <a:off x="6045480" y="1557000"/>
              <a:ext cx="11552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手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6556680" y="4005000"/>
              <a:ext cx="667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ff"/>
                  </a:solidFill>
                  <a:latin typeface="Arial"/>
                </a:rPr>
                <a:t>嘴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2808360" y="1125360"/>
              <a:ext cx="316836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泥人高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遇海张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贱卖海张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智斗传千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2881080" y="3573360"/>
              <a:ext cx="324036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生意红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遇李中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巧答中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66"/>
                  </a:solidFill>
                  <a:latin typeface="Arial"/>
                </a:rPr>
                <a:t>美名远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04"/>
          <p:cNvPicPr/>
          <p:nvPr/>
        </p:nvPicPr>
        <p:blipFill>
          <a:blip r:embed="rId1"/>
          <a:stretch/>
        </p:blipFill>
        <p:spPr>
          <a:xfrm>
            <a:off x="3203640" y="0"/>
            <a:ext cx="2092320" cy="457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sujpg"/>
          <p:cNvPicPr/>
          <p:nvPr/>
        </p:nvPicPr>
        <p:blipFill>
          <a:blip r:embed="rId2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"/>
          <p:cNvSpPr/>
          <p:nvPr/>
        </p:nvSpPr>
        <p:spPr>
          <a:xfrm>
            <a:off x="3071880" y="714240"/>
            <a:ext cx="57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手艺道上的人，捏泥人的“泥人张”排第一。而且，有第一，没第二，第三差着十万八千里。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作者说泥人张的手艺“有第一，没第二，第三差着十万八千里”，这么说是不是太夸张了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你怎么理解这种夸张的作用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?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071880" y="3643200"/>
            <a:ext cx="57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确实运用了夸张的手法，这是民间文学中十分常用的手法 。这种夸张是在突出“泥人张”的技艺超凡绝伦，远远超出同行中人。但是如果只写“技艺高超，众人莫能望其项背”，文字就过于平板。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运用这样强烈的夸张后，能够给读者留下深刻的印象，能够收到较好的表达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04"/>
          <p:cNvPicPr/>
          <p:nvPr/>
        </p:nvPicPr>
        <p:blipFill>
          <a:blip r:embed="rId1"/>
          <a:stretch/>
        </p:blipFill>
        <p:spPr>
          <a:xfrm>
            <a:off x="3203640" y="0"/>
            <a:ext cx="2092320" cy="457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sujpg"/>
          <p:cNvPicPr/>
          <p:nvPr/>
        </p:nvPicPr>
        <p:blipFill>
          <a:blip r:embed="rId2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3059280" y="642960"/>
            <a:ext cx="58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海张五那边还在不停地找乐子，泥人张这边肯定把这些话在他手里的这团泥上全找回来了。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你怎么理解句中加点的“找”字，试着将它换成其他的动词，看看表达效果有什么不同。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987640" y="2857680"/>
            <a:ext cx="587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找”字源于海张五的“找乐子”，“找”者，寻觅是也。海张五拿“泥人张”取笑找乐，“泥人张”便“找到”他“快乐”时的丑态并捏进了“泥人”中。一个“找”字，看出了“泥人张”以其人之道还治其人之身的机智，还看出了“海张五”自作自受的可笑。如果换成“捏、揉、做”等字眼，就只有“泥人张”一方的行为，就不易看出他的“被迫还击”和“机智应对”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04"/>
          <p:cNvPicPr/>
          <p:nvPr/>
        </p:nvPicPr>
        <p:blipFill>
          <a:blip r:embed="rId1"/>
          <a:stretch/>
        </p:blipFill>
        <p:spPr>
          <a:xfrm>
            <a:off x="3276720" y="260280"/>
            <a:ext cx="2092320" cy="457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ujpg"/>
          <p:cNvPicPr/>
          <p:nvPr/>
        </p:nvPicPr>
        <p:blipFill>
          <a:blip r:embed="rId2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3132000" y="112536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本文的语言极富表现力。比如，泥人张捏好海张五头像后，“他把这泥团往桌上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Arial"/>
              </a:rPr>
              <a:t>‘叭’地一戳”，这个“戳”字展现了泥人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276720" y="3213000"/>
            <a:ext cx="5327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内心的愤怒、鄙夷与不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真是不可更易的一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2"/>
          <p:cNvSpPr txBox="1"/>
          <p:nvPr/>
        </p:nvSpPr>
        <p:spPr>
          <a:xfrm>
            <a:off x="395280" y="260280"/>
            <a:ext cx="25210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想一想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50920" y="227664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泥人张贱卖“海张五”处。写出泥人张用“机智”斗败海张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24000" y="4437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技术上，泥人张是个超凡绝伦的人；在性格上，他是个镇定自若，机智，智高一筹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5b26be7cc8739e87f6640d7921ef4b03"/>
          <p:cNvPicPr/>
          <p:nvPr/>
        </p:nvPicPr>
        <p:blipFill>
          <a:blip r:embed="rId1"/>
          <a:stretch/>
        </p:blipFill>
        <p:spPr>
          <a:xfrm>
            <a:off x="6732720" y="476280"/>
            <a:ext cx="1676160" cy="20955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2"/>
          <p:cNvSpPr/>
          <p:nvPr/>
        </p:nvSpPr>
        <p:spPr>
          <a:xfrm>
            <a:off x="1042920" y="14842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这故事的高潮在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116000" y="371628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泥人张是个什么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sujpg"/>
          <p:cNvPicPr/>
          <p:nvPr/>
        </p:nvPicPr>
        <p:blipFill>
          <a:blip r:embed="rId1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916360" y="981000"/>
            <a:ext cx="644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阅读课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—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自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析内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中堂大人息怒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小人不知道中堂大人不爱吃压碎的芝麻粒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惹恼了大人。大人不记小人过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饶了小人这次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今后一定痛改前非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916360" y="4149720"/>
            <a:ext cx="576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品析角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说话的难度、说话的艺术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说话的效果、他人的反应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916360" y="189000"/>
            <a:ext cx="532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品析好嘴之“好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395280" y="260280"/>
            <a:ext cx="25210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再想一想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332000" y="189936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一来，叫在场所有人摸不着头脑。茶汤不爱吃，反倒奖巨银，为嘛？傻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隶书"/>
                <a:ea typeface="隶书"/>
              </a:rPr>
              <a:t>请赏析本句好在哪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619280" y="342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通过在场人们的迷惑，从侧面写出了杨巴的聪明机智，体现杨巴智高一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2363927"/>
          <p:cNvPicPr/>
          <p:nvPr/>
        </p:nvPicPr>
        <p:blipFill>
          <a:blip r:embed="rId1"/>
          <a:stretch/>
        </p:blipFill>
        <p:spPr>
          <a:xfrm>
            <a:off x="6659640" y="4508640"/>
            <a:ext cx="1676160" cy="2095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2007415193639212"/>
          <p:cNvPicPr/>
          <p:nvPr/>
        </p:nvPicPr>
        <p:blipFill>
          <a:blip r:embed="rId2"/>
          <a:stretch/>
        </p:blipFill>
        <p:spPr>
          <a:xfrm>
            <a:off x="0" y="620640"/>
            <a:ext cx="1584360" cy="3816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2"/>
          <p:cNvSpPr txBox="1"/>
          <p:nvPr/>
        </p:nvSpPr>
        <p:spPr>
          <a:xfrm>
            <a:off x="395280" y="260280"/>
            <a:ext cx="252108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再想一想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32000" y="1268280"/>
            <a:ext cx="73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自此，杨巴在天津城威名大震。那“杨家茶汤”也被人们改称做“杨巴茶汤”了。杨七反倒渐渐埋没，无人知晓。杨巴对此毫不内疚，因为自己成名靠的是自己一张好嘴，李中堂并没有喝茶汤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332000" y="422100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结尾提升主题，好嘴之好，好到中堂未吃，却茶汤更名，杨巴威名大震，可谓嘴建奇功，嘴出奇人。还用了杨七的埋没反衬出杨巴的名气。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俗世奇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名副其实，流传后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476360" y="3573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赏析本段在内容上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56704dca674b6597c8176861"/>
          <p:cNvPicPr/>
          <p:nvPr/>
        </p:nvPicPr>
        <p:blipFill>
          <a:blip r:embed="rId1"/>
          <a:stretch/>
        </p:blipFill>
        <p:spPr>
          <a:xfrm>
            <a:off x="7524720" y="4797360"/>
            <a:ext cx="1285920" cy="1513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2007415193639167"/>
          <p:cNvPicPr/>
          <p:nvPr/>
        </p:nvPicPr>
        <p:blipFill>
          <a:blip r:embed="rId2"/>
          <a:stretch/>
        </p:blipFill>
        <p:spPr>
          <a:xfrm>
            <a:off x="250920" y="1197000"/>
            <a:ext cx="952560" cy="2295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sujpg"/>
          <p:cNvPicPr/>
          <p:nvPr/>
        </p:nvPicPr>
        <p:blipFill>
          <a:blip r:embed="rId1"/>
          <a:stretch/>
        </p:blipFill>
        <p:spPr>
          <a:xfrm>
            <a:off x="0" y="0"/>
            <a:ext cx="30178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1"/>
          <p:cNvSpPr/>
          <p:nvPr/>
        </p:nvSpPr>
        <p:spPr>
          <a:xfrm>
            <a:off x="2843280" y="1052640"/>
            <a:ext cx="594036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俗世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“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奇人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3059280" y="3068640"/>
            <a:ext cx="590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“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俗世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是民间社会，多指下层百姓生活的民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“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奇人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”是指那些身怀绝技的民间艺人或工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500720" y="18900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理解题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3a65bb2a12e0bc3cd52af10c"/>
          <p:cNvPicPr/>
          <p:nvPr/>
        </p:nvPicPr>
        <p:blipFill>
          <a:blip r:embed="rId1"/>
          <a:stretch/>
        </p:blipFill>
        <p:spPr>
          <a:xfrm>
            <a:off x="5940360" y="4581360"/>
            <a:ext cx="2990880" cy="1973520"/>
          </a:xfrm>
          <a:prstGeom prst="rect">
            <a:avLst/>
          </a:prstGeom>
          <a:ln w="0">
            <a:noFill/>
          </a:ln>
        </p:spPr>
      </p:pic>
      <p:sp>
        <p:nvSpPr>
          <p:cNvPr id="153" name="WordArt 3"/>
          <p:cNvSpPr txBox="1"/>
          <p:nvPr/>
        </p:nvSpPr>
        <p:spPr>
          <a:xfrm>
            <a:off x="395280" y="260280"/>
            <a:ext cx="3816360" cy="9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latin typeface="华文新魏"/>
              </a:rPr>
              <a:t>最后再想一想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042920" y="134136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泥人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中说技艺靠“手”，而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好嘴杨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中说技艺靠“嘴”，两者是否矛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42920" y="3068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并不矛盾。本文是写天津生活的高超技艺，而技艺又有许多种，不但有手艺，还要会推销，因此才会有天津的热闹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92360" y="691920"/>
            <a:ext cx="5220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泥人张和杨七、杨巴的共同点：</a:t>
            </a:r>
            <a:r>
              <a:rPr b="1" lang="zh-CN" sz="4000" spc="-1" strike="noStrike">
                <a:solidFill>
                  <a:srgbClr val="b2b2b2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64000" y="2421000"/>
            <a:ext cx="47498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都是俗世奇人，他们都有拿手擅长的行当，可以说是有大本领大智慧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5" descr="sujpg"/>
          <p:cNvPicPr/>
          <p:nvPr/>
        </p:nvPicPr>
        <p:blipFill>
          <a:blip r:embed="rId1"/>
          <a:stretch/>
        </p:blipFill>
        <p:spPr>
          <a:xfrm>
            <a:off x="0" y="0"/>
            <a:ext cx="30160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7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7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7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7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"/>
          <p:cNvPicPr/>
          <p:nvPr/>
        </p:nvPicPr>
        <p:blipFill>
          <a:blip r:embed="rId1"/>
          <a:srcRect l="0" t="0" r="0" b="2539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0" name="Oval 3"/>
          <p:cNvSpPr/>
          <p:nvPr/>
        </p:nvSpPr>
        <p:spPr>
          <a:xfrm>
            <a:off x="3886200" y="304920"/>
            <a:ext cx="40384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4211640" y="33336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  <a:ea typeface="华文行楷"/>
              </a:rPr>
              <a:t>我来写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962520" y="22096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幼圆"/>
              </a:rPr>
              <a:t>我身边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幼圆"/>
              </a:rPr>
              <a:t>俗世奇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20040422140852-0"/>
          <p:cNvPicPr/>
          <p:nvPr/>
        </p:nvPicPr>
        <p:blipFill>
          <a:blip r:embed="rId1"/>
          <a:stretch/>
        </p:blipFill>
        <p:spPr>
          <a:xfrm>
            <a:off x="2697120" y="1523880"/>
            <a:ext cx="3475080" cy="43434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3474000" y="5753160"/>
            <a:ext cx="1759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泥人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彩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nirenzhang6"/>
          <p:cNvPicPr/>
          <p:nvPr/>
        </p:nvPicPr>
        <p:blipFill>
          <a:blip r:embed="rId1"/>
          <a:stretch/>
        </p:blipFill>
        <p:spPr>
          <a:xfrm>
            <a:off x="1752480" y="1414440"/>
            <a:ext cx="4953240" cy="4376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474000" y="5753160"/>
            <a:ext cx="1759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泥人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彩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3474000" y="5753160"/>
            <a:ext cx="1759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泥人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彩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nirenzhang8"/>
          <p:cNvPicPr/>
          <p:nvPr/>
        </p:nvPicPr>
        <p:blipFill>
          <a:blip r:embed="rId1"/>
          <a:stretch/>
        </p:blipFill>
        <p:spPr>
          <a:xfrm>
            <a:off x="2266920" y="1447920"/>
            <a:ext cx="3295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482640" y="5734080"/>
            <a:ext cx="1759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泥人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彩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xinsrc_03eb3c35337f482f816ae4bb749785e5"/>
          <p:cNvPicPr/>
          <p:nvPr/>
        </p:nvPicPr>
        <p:blipFill>
          <a:blip r:embed="rId1"/>
          <a:stretch/>
        </p:blipFill>
        <p:spPr>
          <a:xfrm>
            <a:off x="2970360" y="1523880"/>
            <a:ext cx="29732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识记理解重点字词，了解作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品味本文语言特色，概括主要人物的形象性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欣赏本文情节虽然简单但曲折有致的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468360" y="9079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987640" y="90792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8360" y="206064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059280" y="213372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6"/>
          <p:cNvGrpSpPr/>
          <p:nvPr/>
        </p:nvGrpSpPr>
        <p:grpSpPr>
          <a:xfrm>
            <a:off x="1332000" y="981000"/>
            <a:ext cx="3600360" cy="1866600"/>
            <a:chOff x="1332000" y="981000"/>
            <a:chExt cx="3600360" cy="1866600"/>
          </a:xfrm>
        </p:grpSpPr>
        <p:grpSp>
          <p:nvGrpSpPr>
            <p:cNvPr id="70" name="Group 7"/>
            <p:cNvGrpSpPr/>
            <p:nvPr/>
          </p:nvGrpSpPr>
          <p:grpSpPr>
            <a:xfrm>
              <a:off x="1332000" y="981000"/>
              <a:ext cx="3600360" cy="642600"/>
              <a:chOff x="1332000" y="981000"/>
              <a:chExt cx="3600360" cy="642600"/>
            </a:xfrm>
          </p:grpSpPr>
          <p:sp>
            <p:nvSpPr>
              <p:cNvPr id="71" name="Text Box 8"/>
              <p:cNvSpPr/>
              <p:nvPr/>
            </p:nvSpPr>
            <p:spPr>
              <a:xfrm>
                <a:off x="1332000" y="981000"/>
                <a:ext cx="100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chù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 Box 9"/>
              <p:cNvSpPr/>
              <p:nvPr/>
            </p:nvSpPr>
            <p:spPr>
              <a:xfrm>
                <a:off x="3924360" y="981000"/>
                <a:ext cx="100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sh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10"/>
            <p:cNvSpPr/>
            <p:nvPr/>
          </p:nvSpPr>
          <p:spPr>
            <a:xfrm>
              <a:off x="1403280" y="22050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/>
            <p:cNvSpPr/>
            <p:nvPr/>
          </p:nvSpPr>
          <p:spPr>
            <a:xfrm>
              <a:off x="3995640" y="220500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ō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12"/>
          <p:cNvSpPr/>
          <p:nvPr/>
        </p:nvSpPr>
        <p:spPr>
          <a:xfrm>
            <a:off x="468360" y="328464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132000" y="3284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68360" y="450864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模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5"/>
          <p:cNvGrpSpPr/>
          <p:nvPr/>
        </p:nvGrpSpPr>
        <p:grpSpPr>
          <a:xfrm>
            <a:off x="1403280" y="3357720"/>
            <a:ext cx="3816360" cy="713880"/>
            <a:chOff x="1403280" y="3357720"/>
            <a:chExt cx="3816360" cy="713880"/>
          </a:xfrm>
        </p:grpSpPr>
        <p:sp>
          <p:nvSpPr>
            <p:cNvPr id="79" name="Text Box 16"/>
            <p:cNvSpPr/>
            <p:nvPr/>
          </p:nvSpPr>
          <p:spPr>
            <a:xfrm>
              <a:off x="1403280" y="3357720"/>
              <a:ext cx="93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lià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3995640" y="34290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hu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8"/>
          <p:cNvSpPr/>
          <p:nvPr/>
        </p:nvSpPr>
        <p:spPr>
          <a:xfrm>
            <a:off x="3348000" y="4653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敦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9"/>
          <p:cNvGrpSpPr/>
          <p:nvPr/>
        </p:nvGrpSpPr>
        <p:grpSpPr>
          <a:xfrm>
            <a:off x="1835280" y="4653000"/>
            <a:ext cx="4105080" cy="713880"/>
            <a:chOff x="1835280" y="4653000"/>
            <a:chExt cx="4105080" cy="713880"/>
          </a:xfrm>
        </p:grpSpPr>
        <p:sp>
          <p:nvSpPr>
            <p:cNvPr id="83" name="Text Box 20"/>
            <p:cNvSpPr/>
            <p:nvPr/>
          </p:nvSpPr>
          <p:spPr>
            <a:xfrm>
              <a:off x="1835280" y="465300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1"/>
            <p:cNvSpPr/>
            <p:nvPr/>
          </p:nvSpPr>
          <p:spPr>
            <a:xfrm>
              <a:off x="4859280" y="4724280"/>
              <a:ext cx="108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dū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3"/>
          <p:cNvSpPr/>
          <p:nvPr/>
        </p:nvSpPr>
        <p:spPr>
          <a:xfrm>
            <a:off x="0" y="0"/>
            <a:ext cx="52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认识这些字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结合语境理解划线词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到了需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逢场作戏、八面玲珑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风使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舵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左右逢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时候，就更指着杨巴那张好嘴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倘若说这是芝麻，不是脏东西，不等于骂中堂大人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孤陋寡闻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没有见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天津卫九河下梢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人情练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生意场上，心灵嘴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00:40:27Z</dcterms:created>
  <dc:creator>user</dc:creator>
  <dc:description/>
  <dc:language>en-US</dc:language>
  <cp:lastModifiedBy>yanlu</cp:lastModifiedBy>
  <dcterms:modified xsi:type="dcterms:W3CDTF">2014-02-14T06:23:57Z</dcterms:modified>
  <cp:revision>45</cp:revision>
  <dc:subject/>
  <dc:title>幻灯片 1</dc:title>
</cp:coreProperties>
</file>